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8D1-2DBC-48B1-BA92-00BC4021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0B5-CE25-4F0D-AF35-595BE896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106-CF4C-411A-B2AE-88EE7F32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D9D-1C67-422E-BA53-1EDD731D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6D0-9749-4531-B893-D01D5F50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91B-B641-4590-A0B3-2D2BC546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72E-E18B-4FE7-A11B-E5687A31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125-5C4B-4430-A30A-B6C282F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041-40A7-4FDC-9728-A27B414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AF5-792B-4E1E-B420-E832756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4D3-2EE2-4ECA-8A47-32B243D4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061-43AB-44FB-B551-BBB18D80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00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00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00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326200" y="2971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73704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ing Child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00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00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00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00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00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00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82C1-C63E-413D-8A97-544B71972C2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r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rn injuries account for approximately 6% to 20% of all abuse cases, and severe burns are reported in an estimated 10% of all children suffering physical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ldren under the age of four are at the greatest risk of being burn victims, with boys more likely to incur injury than gir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Toon, M. H., Maybauer, D. M., Arceneaux, L. L., Fraser,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. F., Meyer, W., Runge, A., &amp; Maybauer, M. O. (2011).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hildren with burn injuries-assessment of trauma, neglect, violence and abuse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urnal of Injury &amp; Violence Research, 3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2), 98–110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mily Ab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mily abdu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taking, keeping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 concealing of a child or children by a parent, other family member, or person acting on behalf of the parent or family member that deprives another individual of his or her custody or visitation righ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ity of child kidnappings are family kidnapp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mily Ab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tates and the District of Columbia have statutes that prohibit parental kidnapp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ddition, the International Parental Kidnapping Crime Act of 1993 makes it a federal offense for parents to abduct children from the United States and take them to another coun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ndrom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unchausen syndrome by prox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included here because it involves both physical abuse and medical neglect of a chi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nchausen syndrome by proxy abuse is characterized by repeated unnecessary medical tests and procedures, which are demanded by a caretaker and cause physical injury to the chi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ndrom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aken baby syndrome (SBS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medical term used to describe the violent shaking of a child and the injuries that can resul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results from the violent shaking of an infant by the shoulders, arms, or leg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ath Due to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hildren under age four die from child abuse and neglect than from automobile accidents, falls, fires, drowning, suffocation, and choking on foo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alized units have been developed for investigating reports of child abuse in the courts, police departments, and social service agencies across the coun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ath Due to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stimated 1,537 children in the United States die of child abuse and neglect each year; this translates to a rate of 2.07 children per 100,000 children in the general pop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hild Welfare Information Gateway. (2012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Child abuse and neglect fatalities 2010: Statistics and intervention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Washington, DC: U.S. Department of Health and Human Services, Children’s Bureau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ath Due to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illing of a brother or sister is calle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atricid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rer than any other family homicide, it occurs in 1.5% of the total criminal deaths in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oper, A., &amp; Smith, E. L. (2011). Homicide trends in the United States, 1980–2008: Annual rates for 2009 and 2010. Washington, DC: U.S. Department of Justice. Retrieved from http://bjs.gov/content/pub/pdf/htus8008.pdf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ath Due to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licid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killing of children by parents; it is a nonlegal term that in some studies may include victims of infantic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hough all murders are tragic, a parent’s killing of a child is a form of abuse that is difficult to understan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ost 30% of child abuse or neglect fatalities are perpetrated by the mother acting alon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hild Welfare Information Gateway. (2012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Child abuse and neglect fatalities 2010: Statistics and intervention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Washington, DC: U.S. Department of Health and Human Services, Children’s Bureau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ild Death Review Tea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has shown that as many as 50% of child deaths listed as “undetermined” or “accidents” are actually caused by child ab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ochstadt, N. J. (2006). Child death review teams: A vital component of child protection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Child Welfare, 85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, 653–670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the significance of injury location on a child who may or may not have been physically abu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significance of pattern injury that may be found in children who have been physically abu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criminal act of family abdu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indicators of child sexual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role of police officers in the investigation of child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ild Death Review Tea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978, the Los Angeles County Inter-Agency Council on Child Abuse and Neglect (ICAN) formed the first child fatality review team in the United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day, there are child death review teams in all 50 states, Australia, and Canad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ath review teams are typically made up of the following representatives: a pediatrician, medical examiner, prosecuting attorney, social worker, mental health professional, police officer, nurse, educator, and paramedi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Abuse 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ld welfare agencies use different levels of legal evidence when making decisions to substantiate child abuse and negl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states u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eponderance of evidence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is the highest legal standar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s use less vigorous standards, includ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redible evidence, reasonable evidence, probable cause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other standa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ld sexual abuse can take place within the family or outside of the fami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Sexu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xual assaul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a child is any forced, exploitive, or coercive sexual contact or experience with a child. Examples ar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les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yeur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hibition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n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d prostit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Sexu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e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s to any sexual activity between persons who are so closely related that their marriage is illegal (e.g., parents and children, uncles/aunts, and nieces/nephews, etc.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hood sibling–sibling incest is also considered to be widespread but rarely repor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mptoms of Sexu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ly abused children may develop behavior changes, such 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xual acting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ssive masturb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usual interest in or avoidance of all things of a sexual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may develop sleep problems or nightmares, depression, unusual aggressiveness, and suicidal behavior, and may refuse to go to sch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mptoms of Sexu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and nonsexual trauma to the genital area can result in abrasion, bruising, and lac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abuse may result in a sexually transmitted disease (STD) or pregna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Abuse Accommodation Syndro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ve phases common to the experiences of a child who has been sexually victimiz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re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less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rapment and accommo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ayed, conflicted, and unconvincing disclo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ra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Role of Poli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se of police powers in child maltreatment cases has been surrounded with controversy since the earliest attempts at interven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1970s, specialized police units were developed to investigate and prosecute physical and sexual abuse of child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ly, child protective services (CPS) agencies, law enforcement, physicians, and mental health workers are involved. Risk assessment is always the first priority in any allegation of abuse or neglect of a chi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viewing Child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able research has been conducted on the outcomes of child abuse investigations, resulting in protocols to improve child abuse victim stat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ederal Bureau of Investigation (FBI) suggests that for cases involving young children and adolescents, interviewers should receive training in forensic interviewing and use a trained forensic interviewer, multidisciplinary teams, or such resources as child advocacy cent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viewing Child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interview of a child should be conducted in anticipation of a future legal challenge on competency and credibil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etenc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ns that a person is fit to stand trial or to take the oath to tell the truth for testimony in cou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di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fers to whether or not the child witness can be belie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itial Investi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service agencies make determinations regarding the safety of the child in the ho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e officers must determine if probable cause exists to believe a crime has been committed and to identify the offender for possible prosecu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riminal investigator must document any injuries and collect evidence substantiating the maltrea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Recor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actice is controversial, having advantages and disadvantag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vantages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an reduce the number of interviews, has strong visual impact, and has the potential to induce a confession when played for the offend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advantages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on problems result from human error and technology failures. Research suggests that the vast majority of children express reluctance to talk about sexual abuse during the first interview, and a portion initially deny that sexual abuse occurred at 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ensic Interview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ld forensic interview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specialist trained to use techniques established by childhood development experts to create legal evidence and testimony based on the accounts of a chi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ICHD interview protocol includes three phases: introductory, rapport-building, and substantive or free rec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review of the NICHD protocol, research has suggested that the approach increases the amount and quality of information that is elicited from child victims of abuse and negl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ur Critical Step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o to the 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 information and inter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et Recor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or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duct Int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 separate interviews with caret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o to the Sce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to see whether the explanation for the abuse is consistent with the location of the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 to Physic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cognition of abuse and collection of substantiating evidence becomes extremely important in abuse ca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reports and other documentation generated may become the focus of the court if prosecution proc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history should be collected before the victim is interviewed and then compared with the explan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ui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location of injury that the child is incapable of self-inflicting is cause for concer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n injury is caused while enforcing discipline or for the purpose of inflicting injury, it is an example of nonaccidental injur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child is punched, kicked, thrown, or shaken and sustains injury, no matter how slight, the abuser could be held legally responsible regardless of the child’s preexisting medical cond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ui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ge dating of bruise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s noting the color of bruising present on a victim and documenting this information using the following time fra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ght red bruises are indicative of an injury 0 to 2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ish or purple bruises are 2 to 5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n indicates a bruise 5 to 7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llow bruises are 7 to 10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wn bruises are 10 to 14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evidence of bruising is present after 2 to 4 week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atterns of Inju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household items are frequently used as weapons, but the most dangerous weapon remains the h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objects used to hit a child may leave a distinguishable pattern of bruising, identifiable, for example, as that caused by a hairbrush, cord, or coat han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terns from grabbing, biting, and attempted strangulation can be obser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stated earlier, punishment taken too far is at the root of most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ad Inju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ants rarely suffer head injuries that are accident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dlers just learning to walk present a different picture; they frequently have lumps on their foreheads because of fa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2T22:19:29Z</dcterms:created>
  <dc:creator>cjcoordccol</dc:creator>
  <dc:description/>
  <dc:language>en-US</dc:language>
  <cp:lastModifiedBy>Cecil, Kevin</cp:lastModifiedBy>
  <dcterms:modified xsi:type="dcterms:W3CDTF">2013-09-16T14:01:03Z</dcterms:modified>
  <cp:revision>32</cp:revision>
  <dc:subject/>
  <dc:title>Slide 1</dc:title>
</cp:coreProperties>
</file>